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32ED-55BF-45D9-BEAB-C1C28CF33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B6BA-4E92-4CF6-8A2E-BC605BB04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5099-17DE-4978-8ECA-CE21E83CB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8E85-634F-4467-A764-2013CD39E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D380-947B-4C3E-B9C5-1E7353D122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D1FC-3F0F-4FA8-87A0-B783ABFBC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1C6E-A122-4249-B40D-132D522D8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53F9-1572-455A-ACB0-883D62B7E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2EFE-6E33-41DD-98D1-049A51262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A17B-5DFF-437B-A103-02D196A51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ED16-4DC7-4CFA-81D3-5F0997A75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B7E6-882C-40BC-8F79-2F26A6B4D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5A94-419B-48F1-90D9-3A6DDF6B82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0A1-9B13-4DAB-8913-86D85C140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BCB9-B0C7-4F9E-825B-F9A4D517D7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E0D-7536-4267-A858-5C722B2989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115E-33BA-4146-B4B8-5F261028B7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0FD-6622-4F0A-A35F-612B50992F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Using BLM PR3.3, </a:t>
            </a:r>
            <a:r>
              <a:rPr b="1" lang="en-CA" sz="22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ADE1-9CAB-43CE-9AF2-5054CA6BD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67A-EDB4-476E-87BE-771790F1D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Table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8B2-3412-4132-B093-7D1A0474DE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78E2-D10A-4BCA-9659-F576F935C7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787-2FA4-48F5-839D-ACCCBD6CF5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713-0DEA-48BC-BE9E-2E1674F130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FEA9-74CE-4CF3-B5B6-EFE6E3B564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952D-8A52-468E-A2B5-E3EA275CC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769E-9B9B-4C28-BA08-D9042BA55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7DD-3486-4DA8-8E2D-EEC5C2440A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740-37CC-4B1A-9B2E-E7B283D218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0788-0A21-4BA3-9FBF-C46067FE4F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0569-0833-40D5-A31B-74E208B37C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D72C-AB42-4858-9D29-6E8331CF9E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E8D-7A52-44F3-9F83-D37884B88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66E8-AB1A-4A7B-B82C-B028C64612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E18E-A13D-4DB8-9388-127331530B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E401-22C7-414B-9E32-7AC6DA2724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E352-133B-40C2-80EB-4ACD41F388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D8E-062F-41A8-B9E9-3EF56A090D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A324-4334-4677-9DBE-D94E0A634A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7F2-2248-4462-94A1-F9AD74CFF7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73D-E5CD-4AC7-8AEF-8CE88322A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661C-98D7-4705-90EF-CE4468443D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B04D-764F-468B-984D-A5C84781AF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238-8BF8-45DF-B075-970D7AFA30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A5F-B145-4FD2-90FF-347318093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B52-F4E4-4E9E-B7BF-6C3B9B3E10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4432-7655-4E1F-9341-B319235AAF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700-B4CB-47A8-9DCD-FC0B4B0A73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3294-7D18-495C-9A8B-97FC08FB3D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755-D418-480E-A18D-3677F11C01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5:09:07Z</dcterms:modified>
  <cp:revision>30</cp:revision>
  <dc:subject/>
  <dc:title>&lt;Title&gt;</dc:title>
</cp:coreProperties>
</file>